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248653"/>
        <c:axId val="98275113"/>
      </c:barChart>
      <c:catAx>
        <c:axId val="512486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75113"/>
        <c:crosses val="autoZero"/>
        <c:auto val="1"/>
        <c:lblAlgn val="ctr"/>
        <c:lblOffset val="100"/>
        <c:noMultiLvlLbl val="0"/>
      </c:catAx>
      <c:valAx>
        <c:axId val="982751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486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7407-131E-4178-9D80-1962CF2D8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8788-AFE0-4136-9729-8C502BC1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B719-E84B-45DD-8B50-B806BBBB7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7AC4-E700-45E2-ABAD-E955C6775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1FA1-E697-4078-8931-ED1ADEF3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53ED-3EF1-40DD-9962-443BD4A9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2989-54D4-4F94-AC34-43D824F7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83C6-A893-4EAC-A1D0-EF736E52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2CED-178F-427F-B03F-5D5242BC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3329-0DA0-4696-BF95-DC4984A3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E9AB-3A82-4175-8D53-238729C6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724D-6289-4DC0-8983-2CB58964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233C4-607F-45CB-87BB-C663BD8229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