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43400"/>
        <c:axId val="20032823"/>
      </c:barChart>
      <c:catAx>
        <c:axId val="31143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32823"/>
        <c:crosses val="autoZero"/>
        <c:auto val="1"/>
        <c:lblAlgn val="ctr"/>
        <c:lblOffset val="100"/>
        <c:noMultiLvlLbl val="0"/>
      </c:catAx>
      <c:valAx>
        <c:axId val="20032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43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58D-5CBE-46CD-9704-FC53EF63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AD1-E666-4193-BA7A-9FBDB7B3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92D-64F9-46EA-929F-8B8604E4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7C6-EE0B-4A1D-9C1C-D88E2BDA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839-F0EF-45EA-8633-E348C044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E1D-5109-4F38-9A75-2193197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98C-AA17-404B-9B65-A855C6F6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975-2AC8-4730-86C2-E908269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E50-DB83-410A-B465-F8E389C3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D2F-9C80-414B-8F33-AC70465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B2B-F75C-4DD0-8312-BF815CF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636-5C7B-4B7F-AF01-C90224C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4E54-565D-4678-ACBE-F9D7968180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