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56266"/>
        <c:axId val="28588613"/>
      </c:barChart>
      <c:catAx>
        <c:axId val="11656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8613"/>
        <c:crosses val="autoZero"/>
        <c:auto val="1"/>
        <c:lblAlgn val="ctr"/>
        <c:lblOffset val="100"/>
        <c:noMultiLvlLbl val="0"/>
      </c:catAx>
      <c:valAx>
        <c:axId val="28588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56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2D0-0B6B-4839-9545-3AC28D8F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9C0-8CCC-42F6-AEE9-7B0E1EE9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4F6-0C2D-4713-894A-0C17DE22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758-4778-4AD2-85A6-DEAD4BC1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F55-715D-41F6-A03D-D142E530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857-C7F2-47FB-AA81-ACD38F2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729-F885-400A-B8CE-1E54EAED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860-B4E7-4229-807D-81560FA9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033-8A79-4E7B-ACA0-967DC9AE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7F1-1708-40DA-B01C-C290A3D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8D8-2217-4967-9992-EDD66CF0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CB9-6EB5-454C-8C11-D37B865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3A464-DBB2-4677-B743-6E216A0FDE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