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98275"/>
        <c:axId val="46858192"/>
      </c:barChart>
      <c:catAx>
        <c:axId val="21498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58192"/>
        <c:crosses val="autoZero"/>
        <c:auto val="1"/>
        <c:lblAlgn val="ctr"/>
        <c:lblOffset val="100"/>
        <c:noMultiLvlLbl val="0"/>
      </c:catAx>
      <c:valAx>
        <c:axId val="46858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8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5A4-5B0A-46E5-A8B4-EDC54A8E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C1B-7D07-44E9-9E94-F7822EA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CCA-7CCB-471D-83BC-E63AE9B7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1CE-CBB8-4CF2-B121-50A299DF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8EB-AF21-4DC8-8AFB-DA44BFAD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38C-3C17-4F16-A180-47BE13CB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C30-E15D-4324-93B5-FC182AED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8C6-D8B4-419C-B347-B89161FE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51D-B87C-4B96-8E75-C41D98E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D4C-684C-4D5C-83C5-4DF15CD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8F4-E7CE-4BEF-B5A8-16D70F1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9BF-36DB-45AE-A448-318CCC6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B56C-073E-4FD1-8E18-E52FB4ECA6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