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34596"/>
        <c:axId val="4454849"/>
      </c:barChart>
      <c:catAx>
        <c:axId val="75634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4849"/>
        <c:crosses val="autoZero"/>
        <c:auto val="1"/>
        <c:lblAlgn val="ctr"/>
        <c:lblOffset val="100"/>
        <c:noMultiLvlLbl val="0"/>
      </c:catAx>
      <c:valAx>
        <c:axId val="4454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34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B95-82D8-4B03-A2E7-49D4F0D4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22E-ADE5-4D3C-8414-A91B293B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420-F769-487A-AD0D-FB9FF542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06D-07C9-4EC7-A66A-41E5F6A1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866-77C2-4B40-AF85-8D1F80E4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52B-FC34-4C3E-A58B-D9525BF9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68D-C021-48FC-8C67-C50A25F3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AD6-673A-4B11-BC71-8FEA31D0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A02-8DB0-4719-9A92-8A1A6424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E92-CF6D-4503-A66C-E6C92B5B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5DF-895E-4004-ADE8-373E17D1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82D-D431-4F20-ABE5-7E98B0D7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689EB-4A95-4590-A678-475D0316CA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